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3CA-7735-45BF-8D08-847FB024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CF6-F594-4C4D-93F0-285D963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DDF-EA23-4829-8BC8-0B487B76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137-4F70-46DA-A022-79F88F88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1B1-B5AC-4FC2-967B-98A57096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FAD-2A8E-4D9D-AB62-956A8D4C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B4E-43A8-49D6-8094-77733BDD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43B-9765-4D12-AF0F-A4CF30E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9DE-2A79-4350-9259-C7D1578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6ED-BB14-479A-B15D-F1EFD36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03A-AC8C-4AE1-92A6-0F754DD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F01-7791-48CF-92D6-16EF1BA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2938-7451-442E-89AB-A3DFBCF6A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214960" y="0"/>
            <a:ext cx="3929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ивное путешествие в мульти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ЕНИЕ   МЕГА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1640" y="234936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Ирина\Desktop\Мегамозг\Мега злой.jpg"/>
          <p:cNvPicPr/>
          <p:nvPr/>
        </p:nvPicPr>
        <p:blipFill>
          <a:blip r:embed="rId2"/>
          <a:stretch/>
        </p:blipFill>
        <p:spPr>
          <a:xfrm>
            <a:off x="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5" descr="img5.jpg"/>
          <p:cNvPicPr/>
          <p:nvPr/>
        </p:nvPicPr>
        <p:blipFill>
          <a:blip r:embed="rId1"/>
          <a:srcRect l="0" t="20646" r="0" b="9050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ХОТЯТ ДРУЖИ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фрагмент 1 Мегамозг в школе.mp4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39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42920" y="28584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Monotype Corsiva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МБАРДИРО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700280"/>
            <a:ext cx="8640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Ирина\Desktop\БОМБЫ.jpg"/>
          <p:cNvPicPr/>
          <p:nvPr/>
        </p:nvPicPr>
        <p:blipFill>
          <a:blip r:embed="rId2"/>
          <a:stretch/>
        </p:blipFill>
        <p:spPr>
          <a:xfrm>
            <a:off x="12600" y="1571760"/>
            <a:ext cx="9131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714680" y="214200"/>
            <a:ext cx="578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азерная ата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24000" y="1700280"/>
            <a:ext cx="104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Users\Ирина\Desktop\лАЗЕРНАЯ СКАКАЛКА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357200" y="35712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кованные цеп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4000" y="1700280"/>
            <a:ext cx="104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Users\Ирина\Desktop\цепь.jpg"/>
          <p:cNvPicPr/>
          <p:nvPr/>
        </p:nvPicPr>
        <p:blipFill>
          <a:blip r:embed="rId2"/>
          <a:stretch/>
        </p:blipFill>
        <p:spPr>
          <a:xfrm>
            <a:off x="928800" y="1560600"/>
            <a:ext cx="73580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071800" y="35712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ДЕРЖ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24000" y="1700280"/>
            <a:ext cx="10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Ирина\Desktop\ПОДДЕРЖКА.jpg"/>
          <p:cNvPicPr/>
          <p:nvPr/>
        </p:nvPicPr>
        <p:blipFill>
          <a:blip r:embed="rId2"/>
          <a:stretch/>
        </p:blipFill>
        <p:spPr>
          <a:xfrm>
            <a:off x="357120" y="1571760"/>
            <a:ext cx="84297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31431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СОРА С ДРУГ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фрагмент 2. Мегамозг и прислужник.mp4" descr=""/>
          <p:cNvPicPr/>
          <p:nvPr/>
        </p:nvPicPr>
        <p:blipFill>
          <a:blip r:embed="rId2"/>
          <a:stretch/>
        </p:blipFill>
        <p:spPr>
          <a:xfrm>
            <a:off x="0" y="1701720"/>
            <a:ext cx="91677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24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img5.jpg"/>
          <p:cNvPicPr/>
          <p:nvPr/>
        </p:nvPicPr>
        <p:blipFill>
          <a:blip r:embed="rId1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14200" y="3571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РУЖБА – ЭТО ЗДОРОВО !!!</a:t>
            </a:r>
            <a:r>
              <a:rPr b="1" lang="ru-RU" sz="4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24000" y="1700280"/>
            <a:ext cx="86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357120" y="1714680"/>
            <a:ext cx="842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Ирина\Desktop\ФИНАЛ.jpg"/>
          <p:cNvPicPr/>
          <p:nvPr/>
        </p:nvPicPr>
        <p:blipFill>
          <a:blip r:embed="rId2"/>
          <a:stretch/>
        </p:blipFill>
        <p:spPr>
          <a:xfrm>
            <a:off x="214200" y="1571760"/>
            <a:ext cx="8767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9T11:01:40Z</dcterms:created>
  <dc:creator>teacher</dc:creator>
  <dc:description/>
  <dc:language>en-US</dc:language>
  <cp:lastModifiedBy>Ирина</cp:lastModifiedBy>
  <dcterms:modified xsi:type="dcterms:W3CDTF">2021-12-07T11:36:33Z</dcterms:modified>
  <cp:revision>101</cp:revision>
  <dc:subject/>
  <dc:title>Слайд 1</dc:title>
</cp:coreProperties>
</file>